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15A-7214-4C1D-8FC0-05B80170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630-36C0-42BA-8E82-27EA721B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2C367D-4AB3-4975-8F94-23A74640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BBFB85-5D73-484F-8359-E605873C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3E1E63-2854-4275-8DE9-EA701DA8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27D537-5379-4D2A-8C38-9339B5C5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4A256F-1E1C-4EEA-ADB6-7074BC6D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6BF848-8B63-4073-9CDE-C1A5AF12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5284F9-63E3-4934-8BE6-C63A18B8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606DAE-70C0-422B-9C15-4B09699D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78C0CD-7692-4EAB-B41E-98923090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EB274E-F761-41F6-A7C2-DB440CF2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A4B-B9CE-4284-87E8-C4B466BC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33830C-6591-402F-A961-1BD47102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766077-AE34-4C6A-B5E4-4A9A70EB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750C94-7C3C-42DC-BA52-43FDCF6E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B9DC16-0B68-4576-B558-75590AF9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4CCFEA-F083-4EDF-98D9-D17F5C21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859B80-005B-4267-A469-1D7B92E5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82BDB1-38D2-41DD-BC0B-EE8555ED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EBF903-9DF1-411E-8F9D-D9442A46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7B1AF2-3E1B-4F68-B43B-D4C6B747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DC3890-E39F-4411-88F6-72325390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86A-3BAC-4ECD-BEF0-238DE5CC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952E06-FF94-482F-BF09-B0AD6DD9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4B8365-D016-4A05-92A4-ABF87045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52A4A9-D2F9-4485-AF7F-BE0FA7EB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10EC53-0D9B-49AB-AF21-BD83592F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65EE72-1215-49D9-BEE5-F6D5E74D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874588-EA26-45D9-A45E-70B64657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4533B9-CA0A-4446-B28C-FFED03BF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401E57-E1B0-47A5-9E1F-1CBA441B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2E5F3A-93D7-4189-87EB-77781E73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87A926-7E3A-432F-9044-08097384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D83F97-0A59-462C-8854-73B4BFC6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77C4BB-829B-4FCF-8E54-4BAF2D3C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3449D7-E95A-4BBE-A0B6-9A0897ED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D9D275-E49E-4DCB-8B5C-28E1E849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E5EDE5-13FA-401F-8C51-27E07CD5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C985F5-E65E-4DD9-AD01-44656745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453742-6595-4920-B91A-FDF419CB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4C3634-EACB-4139-B95C-090FC605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C782FD-95F2-4280-AA6D-7D5EA2EA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2532C9-9BBF-40C7-9DD5-944F5080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502534-BF6A-4B1C-8EAE-0BD4B81E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D06FB3-D7BA-442C-8233-F454DA24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78E6CF-10AA-4C19-9110-E6A19B7B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6C3D55-8323-4F87-AE23-1A5325F6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46B1A3-FA80-4F55-ABB7-29DD1E3C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8CC9BD-FE92-476A-8310-18B70878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099775-C1C0-49EC-8CC3-CE9CD5E9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80A142-FF71-48FA-BA9E-EB9E0248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F0C1DB-2210-43F6-9098-935FA99F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7D864F-381C-4463-B72B-1CCA2880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CD2ADC-DFD5-444D-98A5-DCF0BAA0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54C071-0D96-4BA0-8233-A11CC5A5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0ED483-CA1F-4AEB-8409-D1EFF72E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D980B1-E72D-4D89-91DE-C98715D6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0173FD-DFDB-477A-8CEE-C2EDF46F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875381-8008-4A0F-84E3-B660B459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6E83EF-238F-44EC-98DE-2CDE212C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5D2-DD0B-4E24-9A8B-FBD9DF89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CDD4F-44E3-485B-9BDA-8A4D55AB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56B78-165C-479B-9F19-6D54B1EE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F929F-1775-4DF4-8FB3-6F96FD45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A20A7-AF02-48CB-86A1-442F12D9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CF7C9-B6F6-430A-B3DC-C64E112A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29E-A12F-4B74-B90A-E329AF86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E1A45-A272-43FC-80F5-8A18493B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46823-E92A-425F-AF11-7FCAA973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E0D43-8FD4-44A6-9033-EDB02ADF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A363F-D1FC-4422-A44A-6F63764D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42B50-BA62-4CAA-8095-EC79CAEE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FC6FE-C986-405E-9AD5-249A9800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75849-EAA9-4FDC-B5E6-0837C789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B83DD0-6F2E-444A-8B43-93C38436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4C150-63E1-4EE1-BFA5-C968D68A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833CE9-2B1E-4E69-BAB6-4CB9E9B4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008-6D93-4D2B-9F62-7331C03C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5CA260-1228-4365-A327-AEFA1F33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EE35D-F8F9-47D6-A019-3013D381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75185E-C548-4976-A929-70CFE091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E44B79-C271-4B76-94C7-C86FB3B7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E199E3-B3A8-47BA-B932-61EA1EE4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F7970E-4B75-4E86-BB23-CA1FA418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4A40A-99BE-4CC2-B4A7-385DF762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7CF6E0-CC2E-49D8-9C90-EDA905E2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113A77-17CC-4C95-8A11-109B8B9D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7706B2-D46D-48A3-BEA7-969201AA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306-B50F-4943-9372-4F132306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9B170-27C8-4060-8FDA-9489BCB1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8DCA1-D54F-45D9-B950-4CCF0C98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CCBBB-4FBB-4283-A82D-0F40F2F5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0146BA-BB50-4DA5-BABB-A91B04FF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010E0C-35DB-4245-B99E-14A74EAE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B7D530-FCF1-4931-B14D-557D3F78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452634-AB00-4853-A283-BDFBB1EE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1B2B9F-01F2-4B8A-A297-4D833019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8676F-C35F-4930-992C-FC660CA2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9563C2-FA23-4E1B-A30E-08B95D0F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291-5CCB-454E-804D-7529D764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30DA9-7610-4DDF-A72C-E236B1C1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664A6-B602-422F-9957-82A03694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AF5BF4-B7E8-43C1-B959-400F13E5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846272-F0EB-48F6-BDF7-B13C3C2E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3A23A-C4D4-41CB-B427-61AB1D3E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074D6F-FF8D-4D3A-A87A-50CC42BB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ED42EF-D622-4408-816F-C2C882D9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0A2560-1336-40D5-AC97-A90BD38C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8F5E7-1819-4CF5-8FB0-301FF38B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2407CF-FBA4-4AB7-B0A0-66686B3A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616-DD1C-4C9B-B76B-C1F3B2C4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7FA74C-EB67-4483-B1E4-49EAAF81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88747-9D5F-42D1-99BC-5EA5F3DA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E42B81-9065-470E-9866-678490A9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E32567-2178-46BF-B1DB-B3100C53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9B60F1-B728-4F8D-BD94-17C0636C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3286CB-0D75-40E4-9C7D-FB273F3C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419B96-BEC9-436D-98B1-72CDB8FC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55AD7F-8018-413F-98F4-FF05F841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651B9C-F12F-4F75-BBF6-A0FAC6D1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7A27B-D26E-4AFB-B0D0-00FA7AA8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2CE9-89B6-461F-A974-AFFF99B9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41CF80-E281-43B3-AAF1-E45EC2E1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3D1C6-5223-4E23-B22A-04279BA8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665EF-1A1A-47E2-BEB2-D03274B2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850A5D-2027-418B-BD61-69BE5891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832547-B6EC-46D8-A559-72DC54A2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4250EC-B482-4172-AD9E-88EE2FB1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8AB51E-CA36-46DB-B841-F362B119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D631E3-D756-4A98-944F-FAE72B9E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16E086-A675-4A58-A25E-87374F3A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F58270-C752-4968-9B96-085AD581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D91-D738-4180-811D-F157B547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160625-BCED-4D6B-A1CE-104095A3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1F0BAA-9C1D-4B1B-9CE7-0BDA9B2F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FE3B24-78A1-43AB-9385-6BE087A7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A1BA9E-D280-4E45-B1A3-317B985A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D6319B-7AB3-4A7A-B68D-23B8E0CB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7AD87F-4C4C-4C71-8400-7516FC7E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6742AC-E322-4C74-8758-D206F567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B9369C-F1A6-4A3C-A21A-DC32570D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CE5328-8B6C-4B7A-ADCE-4AED1E8A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61B5D8-FC0D-4F86-8915-FA18FF1F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E0F6-AAF1-4590-A72F-9693A64D123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7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8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9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1096-E838-422B-8118-4F1F04C49CC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4E9C-DAF9-4412-B075-05EEB5C48F5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4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5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D29D-FDCE-4696-85F0-3957F5C2B43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B2F0-10AF-4AB8-87CE-20DA02B96CB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ver-TextureFore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9878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2952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E327-61B1-46C0-A585-4A41C96A1F8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9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0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1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372A-95AD-4AB1-920A-826CA6A7300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81F0-F73B-4DD4-B6A3-BE13B640E3A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55CC-0944-471C-9C34-3946EB5AB18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6DC6-5F25-404B-AEC9-427027BFAD0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1EA7-6430-492B-86B0-A9267632B1E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4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5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6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6B8E-17AC-41AB-85AC-239CD4A8365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Rectangle 2" descr=""/>
          <p:cNvPicPr/>
          <p:nvPr/>
        </p:nvPicPr>
        <p:blipFill>
          <a:blip r:embed="rId1"/>
          <a:stretch/>
        </p:blipFill>
        <p:spPr>
          <a:xfrm>
            <a:off x="1371600" y="1792440"/>
            <a:ext cx="7089840" cy="1931760"/>
          </a:xfrm>
          <a:prstGeom prst="rect">
            <a:avLst/>
          </a:prstGeom>
          <a:ln w="0">
            <a:noFill/>
          </a:ln>
        </p:spPr>
      </p:pic>
      <p:pic>
        <p:nvPicPr>
          <p:cNvPr id="545" name="Rectangle 3" descr=""/>
          <p:cNvPicPr/>
          <p:nvPr/>
        </p:nvPicPr>
        <p:blipFill>
          <a:blip r:embed="rId2"/>
          <a:stretch/>
        </p:blipFill>
        <p:spPr>
          <a:xfrm>
            <a:off x="1371600" y="3664080"/>
            <a:ext cx="7089840" cy="175572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4"/>
          <p:cNvSpPr/>
          <p:nvPr/>
        </p:nvSpPr>
        <p:spPr>
          <a:xfrm>
            <a:off x="59878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12952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ndara"/>
              </a:rPr>
              <a:t>Leaps of Imagination Through Comics</a:t>
            </a:r>
            <a:endParaRPr b="1" lang="en-US" sz="43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ndara"/>
              </a:rPr>
              <a:t>Narrative is one kind of guide</a:t>
            </a:r>
            <a:endParaRPr b="0" lang="en-US" sz="2600" spc="-1" strike="noStrike">
              <a:solidFill>
                <a:srgbClr val="404040"/>
              </a:solidFill>
              <a:latin typeface="Candara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ndara"/>
              </a:rPr>
              <a:t>Style is another and provides the artist</a:t>
            </a:r>
            <a:r>
              <a:rPr b="0" lang="ja-JP" sz="2600" spc="-1" strike="noStrike">
                <a:solidFill>
                  <a:srgbClr val="404040"/>
                </a:solidFill>
                <a:latin typeface="Candara"/>
                <a:ea typeface="メイリオ"/>
              </a:rPr>
              <a:t>’</a:t>
            </a:r>
            <a:r>
              <a:rPr b="0" lang="en-US" sz="2600" spc="-1" strike="noStrike">
                <a:solidFill>
                  <a:srgbClr val="404040"/>
                </a:solidFill>
                <a:latin typeface="Candara"/>
              </a:rPr>
              <a:t>s vision</a:t>
            </a:r>
            <a:endParaRPr b="0" lang="en-US" sz="2600" spc="-1" strike="noStrike">
              <a:solidFill>
                <a:srgbClr val="404040"/>
              </a:solidFill>
              <a:latin typeface="Candara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ndara"/>
              </a:rPr>
              <a:t>Blank spaces intrigue</a:t>
            </a:r>
            <a:endParaRPr b="0" lang="en-US" sz="2600" spc="-1" strike="noStrike">
              <a:solidFill>
                <a:srgbClr val="404040"/>
              </a:solidFill>
              <a:latin typeface="Candara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ndara"/>
              </a:rPr>
              <a:t>Comics serve as a guide to imagining the visual aspect of a story as it</a:t>
            </a:r>
            <a:r>
              <a:rPr b="0" lang="ja-JP" sz="2600" spc="-1" strike="noStrike">
                <a:solidFill>
                  <a:srgbClr val="404040"/>
                </a:solidFill>
                <a:latin typeface="Candara"/>
                <a:ea typeface="メイリオ"/>
              </a:rPr>
              <a:t>’</a:t>
            </a:r>
            <a:r>
              <a:rPr b="0" lang="en-US" sz="2600" spc="-1" strike="noStrike">
                <a:solidFill>
                  <a:srgbClr val="404040"/>
                </a:solidFill>
                <a:latin typeface="Candara"/>
              </a:rPr>
              <a:t>s transformed through the cartoonist</a:t>
            </a:r>
            <a:r>
              <a:rPr b="0" lang="ja-JP" sz="2600" spc="-1" strike="noStrike">
                <a:solidFill>
                  <a:srgbClr val="404040"/>
                </a:solidFill>
                <a:latin typeface="Candara"/>
                <a:ea typeface="メイリオ"/>
              </a:rPr>
              <a:t>’</a:t>
            </a:r>
            <a:r>
              <a:rPr b="0" lang="en-US" sz="2600" spc="-1" strike="noStrike">
                <a:solidFill>
                  <a:srgbClr val="404040"/>
                </a:solidFill>
                <a:latin typeface="Candara"/>
              </a:rPr>
              <a:t>s perception, as opposed to the reader</a:t>
            </a:r>
            <a:r>
              <a:rPr b="0" lang="ja-JP" sz="2600" spc="-1" strike="noStrike">
                <a:solidFill>
                  <a:srgbClr val="404040"/>
                </a:solidFill>
                <a:latin typeface="Candara"/>
                <a:ea typeface="メイリオ"/>
              </a:rPr>
              <a:t>’</a:t>
            </a:r>
            <a:r>
              <a:rPr b="0" lang="en-US" sz="2600" spc="-1" strike="noStrike">
                <a:solidFill>
                  <a:srgbClr val="404040"/>
                </a:solidFill>
                <a:latin typeface="Candara"/>
              </a:rPr>
              <a:t>s own.</a:t>
            </a:r>
            <a:endParaRPr b="0" lang="en-US" sz="2600" spc="-1" strike="noStrike">
              <a:solidFill>
                <a:srgbClr val="404040"/>
              </a:solidFill>
              <a:latin typeface="Candara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ndara"/>
              </a:rPr>
              <a:t>Narrative convert into an interpreted two-dimensional image that is actually four-dimensional: space in time</a:t>
            </a:r>
            <a:endParaRPr b="0" lang="en-US" sz="2600" spc="-1" strike="noStrike">
              <a:solidFill>
                <a:srgbClr val="404040"/>
              </a:solidFill>
              <a:latin typeface="Candara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2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Terms to Remember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Panel: A box which contains a scen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Border: the outline of the pan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Gutters: Space between the panel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ier: row of panels on a pag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Balloons: container of text-dialogu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ail: pointer leading to balloon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6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Terms to Remember, Cont.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5320" indent="-26532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Bird</a:t>
            </a:r>
            <a:r>
              <a:rPr b="0" lang="ja-JP" sz="2800" spc="-1" strike="noStrike">
                <a:solidFill>
                  <a:srgbClr val="404040"/>
                </a:solidFill>
                <a:latin typeface="Candara"/>
                <a:ea typeface="メイリオ"/>
              </a:rPr>
              <a:t>’</a:t>
            </a: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s Eye View: scene as seen from above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  <a:p>
            <a:pPr marL="265320" indent="-26532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Worm</a:t>
            </a:r>
            <a:r>
              <a:rPr b="0" lang="ja-JP" sz="2800" spc="-1" strike="noStrike">
                <a:solidFill>
                  <a:srgbClr val="404040"/>
                </a:solidFill>
                <a:latin typeface="Candara"/>
                <a:ea typeface="メイリオ"/>
              </a:rPr>
              <a:t>’</a:t>
            </a: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s Eye View: as seen from below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  <a:p>
            <a:pPr marL="265320" indent="-26532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Gesture: human movement or expression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  <a:p>
            <a:pPr marL="265320" indent="-26532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Posture: attitude of the body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  <a:p>
            <a:pPr marL="265320" indent="-26532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Flow: the arrangement of the panels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  <a:p>
            <a:pPr marL="265320" indent="-26532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Typography: font type and size/special effects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90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94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Two kinds of Information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Drawn Imag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ritten Word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0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Painting versus poetry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Drawn Images: Painting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ritten Word: Poetry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=the same thing: </a:t>
            </a:r>
            <a:r>
              <a:rPr b="0" lang="ja-JP" sz="2400" spc="-1" strike="noStrike">
                <a:solidFill>
                  <a:srgbClr val="404040"/>
                </a:solidFill>
                <a:latin typeface="Candara"/>
                <a:ea typeface="メイリオ"/>
              </a:rPr>
              <a:t>“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Poetry is a verbal picture; painting is a silent poem</a:t>
            </a:r>
            <a:r>
              <a:rPr b="0" lang="ja-JP" sz="2400" spc="-1" strike="noStrike">
                <a:solidFill>
                  <a:srgbClr val="404040"/>
                </a:solidFill>
                <a:latin typeface="Candara"/>
                <a:ea typeface="メイリオ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4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ndara"/>
              </a:rPr>
              <a:t>How Reading Comics Works</a:t>
            </a:r>
            <a:endParaRPr b="1" lang="en-US" sz="43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e viewer looks at a printed page and sees a series of drawn (cartooned) images, 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ey are surrounded by border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nd have empty space between them.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Each one is a representation of a single moment or very short, continuous span of time.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8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Reading comics, cont.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9720" indent="-27972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Some of those bordered images also include text, surrounded by lines or other visual cues that indicate whether it</a:t>
            </a:r>
            <a:r>
              <a:rPr b="0" lang="ja-JP" sz="2800" spc="-1" strike="noStrike">
                <a:solidFill>
                  <a:srgbClr val="404040"/>
                </a:solidFill>
                <a:latin typeface="Candara"/>
                <a:ea typeface="メイリオ"/>
              </a:rPr>
              <a:t>’</a:t>
            </a: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s to be read as speech spoken (at the time of the moment seen in the image) </a:t>
            </a: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  <a:p>
            <a:pPr lvl="1" marL="571680" indent="-291960"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by one of the characters in the scene, 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1680" indent="-291960"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or as speech by another character who</a:t>
            </a:r>
            <a:r>
              <a:rPr b="0" lang="ja-JP" sz="2400" spc="-1" strike="noStrike">
                <a:solidFill>
                  <a:srgbClr val="404040"/>
                </a:solidFill>
                <a:latin typeface="Candara"/>
                <a:ea typeface="メイリオ"/>
              </a:rPr>
              <a:t>’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 not visible in the panel 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1680" indent="-291960"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or as narration from an omniscient source.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2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Single Panels and time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ymbolic tricks like special kinds of lines that imply speed and motion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howing the same figure or different figures at slightly separated moments in tim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anguage, especially dialogue 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Space and time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ere</a:t>
            </a:r>
            <a:r>
              <a:rPr b="0" lang="ja-JP" sz="2400" spc="-1" strike="noStrike">
                <a:solidFill>
                  <a:srgbClr val="404040"/>
                </a:solidFill>
                <a:latin typeface="Candara"/>
                <a:ea typeface="メイリオ"/>
              </a:rPr>
              <a:t>’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 an element of space in any one panel and an element of time in some comic panels--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e domain of the word-and-image combination is both space and tim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nother panel can add a gap in time and then a jerk forward, but flow may not be only in one direction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ndara"/>
              </a:rPr>
              <a:t>Between Panels: The gutter</a:t>
            </a:r>
            <a:endParaRPr b="1" lang="en-US" sz="43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Blank space whose borders are also the borders outlining the imag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May have only a line between panels or dissolve into blankness without specific panel border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e bordered gutter has become the default. The gutter is where fun happen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4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ndara"/>
              </a:rPr>
              <a:t>What happens in the gutter</a:t>
            </a:r>
            <a:endParaRPr b="1" lang="en-US" sz="43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5320" indent="-26532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Readers get to fill in the lapse of time represented by the blankness of the gutter.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  <a:p>
            <a:pPr marL="265320" indent="-26532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Can serve as </a:t>
            </a:r>
            <a:r>
              <a:rPr b="0" lang="ja-JP" sz="2800" spc="-1" strike="noStrike">
                <a:solidFill>
                  <a:srgbClr val="404040"/>
                </a:solidFill>
                <a:latin typeface="Candara"/>
                <a:ea typeface="メイリオ"/>
              </a:rPr>
              <a:t>“</a:t>
            </a: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pregnant moments</a:t>
            </a:r>
            <a:r>
              <a:rPr b="0" lang="ja-JP" sz="2800" spc="-1" strike="noStrike">
                <a:solidFill>
                  <a:srgbClr val="404040"/>
                </a:solidFill>
                <a:latin typeface="Candara"/>
                <a:ea typeface="メイリオ"/>
              </a:rPr>
              <a:t>”</a:t>
            </a: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 which give birth to the space before the next moment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  <a:p>
            <a:pPr marL="265320" indent="-26532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Contributes to the process of imagining the relationship between the image in one panel to the image in the next as </a:t>
            </a:r>
            <a:r>
              <a:rPr b="0" lang="ja-JP" sz="2800" spc="-1" strike="noStrike">
                <a:solidFill>
                  <a:srgbClr val="404040"/>
                </a:solidFill>
                <a:latin typeface="Candara"/>
                <a:ea typeface="メイリオ"/>
              </a:rPr>
              <a:t>“</a:t>
            </a: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closure</a:t>
            </a:r>
            <a:r>
              <a:rPr b="0" lang="ja-JP" sz="2800" spc="-1" strike="noStrike">
                <a:solidFill>
                  <a:srgbClr val="404040"/>
                </a:solidFill>
                <a:latin typeface="Candara"/>
                <a:ea typeface="メイリオ"/>
              </a:rPr>
              <a:t>”</a:t>
            </a: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8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02:48:14Z</dcterms:created>
  <dc:creator>Robin Murray</dc:creator>
  <dc:description/>
  <dc:language>en-US</dc:language>
  <cp:lastModifiedBy>Robin Murray</cp:lastModifiedBy>
  <dcterms:modified xsi:type="dcterms:W3CDTF">2011-11-02T17:28:16Z</dcterms:modified>
  <cp:revision>3</cp:revision>
  <dc:subject/>
  <dc:title>Reading Comics and Graphic Novels</dc:title>
</cp:coreProperties>
</file>